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6222-C1D5-433F-A87D-4BE06907F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B219-89B3-4C0F-B000-BEA02B4B3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3A3C-8103-4C30-A9FC-10A32EC94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A9A0-7205-4644-B68E-CCF4E87CA2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0ACE-22D3-47E1-B304-0EA15A1AB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A745-E6F3-4747-A9FA-F3ECB6546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0444-3C3B-4DDC-83ED-8068323EE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40A3-F7F0-4908-A396-55D681A29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97B1-BC0A-4247-9502-D565AB641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FA9D-5A18-4085-A2AC-48049680B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DF7D-31B5-4A8F-9204-19A392DA0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A0FC-4FDC-45DE-B4F6-77E7B46F4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5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6600"/>
              </a:buClr>
              <a:buSzPct val="11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0000"/>
              </a:buClr>
              <a:buSzPct val="75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cc00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26280" y="5753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A0E5-17AD-4128-9995-857A40E6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transcore.com/" TargetMode="External"/><Relationship Id="rId3" Type="http://schemas.openxmlformats.org/officeDocument/2006/relationships/hyperlink" Target="http://www.transcore.com/" TargetMode="External"/><Relationship Id="rId4" Type="http://schemas.openxmlformats.org/officeDocument/2006/relationships/hyperlink" Target="http://www.transcore.com/" TargetMode="External"/><Relationship Id="rId5" Type="http://schemas.openxmlformats.org/officeDocument/2006/relationships/hyperlink" Target="mailto:bob.frank@transcore.com?subject=More%20Information%20About%20School%20Bus%20Efficiencies%20-%20Presentation" TargetMode="External"/><Relationship Id="rId6" Type="http://schemas.openxmlformats.org/officeDocument/2006/relationships/hyperlink" Target="mailto:bob.frank@transcore.com?subject=More%20Information%20About%20School%20Bus%20Efficiencies%20-%20Presentation" TargetMode="External"/><Relationship Id="rId7" Type="http://schemas.openxmlformats.org/officeDocument/2006/relationships/hyperlink" Target="mailto:bob.frank@transcore.com?subject=More%20Information%20About%20School%20Bus%20Efficiencies%20-%20Presentation" TargetMode="External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pen_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86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Drive Out School Bus Operational Inefficiencies</a:t>
            </a:r>
            <a:endParaRPr b="0" lang="en-US" sz="4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6311520"/>
            <a:ext cx="6553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November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87800"/>
            <a:ext cx="9144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c00"/>
                </a:solidFill>
                <a:latin typeface="Franklin Gothic Book"/>
              </a:rPr>
              <a:t>Reduce Your Costs and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c00"/>
                </a:solidFill>
                <a:latin typeface="Franklin Gothic Book"/>
              </a:rPr>
              <a:t>Make Your Budget Go Furth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The TransCore System Does It Better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matic terminal arrival/departure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matic vehicle mileage capture and interface to vehicle maintenance and fuel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grated record 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-friendly software for standar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custom rep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ure and affordable inves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791320" y="3174840"/>
            <a:ext cx="2877840" cy="2719800"/>
            <a:chOff x="5791320" y="3174840"/>
            <a:chExt cx="2877840" cy="2719800"/>
          </a:xfrm>
        </p:grpSpPr>
        <p:pic>
          <p:nvPicPr>
            <p:cNvPr id="82" name="component_software" descr=""/>
            <p:cNvPicPr/>
            <p:nvPr/>
          </p:nvPicPr>
          <p:blipFill>
            <a:blip r:embed="rId1"/>
            <a:stretch/>
          </p:blipFill>
          <p:spPr>
            <a:xfrm>
              <a:off x="5791320" y="3174840"/>
              <a:ext cx="2877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278400" y="5618160"/>
              <a:ext cx="23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</a:rPr>
                <a:t>SmartWatc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Franklin Gothic Book"/>
                </a:rPr>
                <a:t>™</a:t>
              </a: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</a:rPr>
                <a:t> 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7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pen_no%20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41f"/>
                </a:solidFill>
                <a:latin typeface="Franklin Gothic Book"/>
              </a:rPr>
              <a:t>For specifics on reducing costs and</a:t>
            </a:r>
            <a:br>
              <a:rPr sz="2800"/>
            </a:br>
            <a:r>
              <a:rPr b="1" lang="en-US" sz="2800" spc="-1" strike="noStrike">
                <a:solidFill>
                  <a:srgbClr val="ffd41f"/>
                </a:solidFill>
                <a:latin typeface="Franklin Gothic Book"/>
              </a:rPr>
              <a:t>improving school bus efficiencies, contact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09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Bob Fran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Franklin Gothic Book"/>
                <a:hlinkClick r:id="rId2"/>
              </a:rPr>
              <a:t>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Franklin Gothic Demi"/>
                <a:hlinkClick r:id="rId3"/>
              </a:rPr>
              <a:t>transcor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Franklin Gothic Book"/>
                <a:hlinkClick r:id="rId4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91440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Franklin Gothic Demi"/>
              </a:rPr>
              <a:t>508.393.276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5"/>
              </a:rPr>
              <a:t>bob.frank@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6"/>
              </a:rPr>
              <a:t>transcore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7"/>
              </a:rPr>
              <a:t>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1764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d41f"/>
                </a:solidFill>
                <a:latin typeface="Franklin Gothic Book"/>
              </a:rPr>
              <a:t>Director, CVO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8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ock%201_e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359320"/>
            <a:ext cx="914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© 2003 TC IP, Ltd. All rights reserved. TRANSCORE and SMARTPASS are registered trademarks and SMARTWATCH is a trademark of TC IP, Ltd.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and are used under license.  All other trademarks are the property of their respective owners. Contents are subject to change. Made in the U.S.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Manually Collecting Data Is Inefficient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operational data is being collected, it is often done manually, and i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ne to human error and inaccura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mely and in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val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impossible to establish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rain on you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2360" y="5092560"/>
            <a:ext cx="717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re you getting the data you need to manage cos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4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Collect Data In A Timely, Efficient Approach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pture data automatically instead, and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operational effici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data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ppropriate 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mileage and schedule timely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9520" y="4813200"/>
            <a:ext cx="782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 effective solution to maximize your limited re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dministrators And Parents Have High Expectations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hance driver accoun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bus arrival/departure time and use this data to compare with driver route time to determine schedule adherence and clock in/out time for accurate 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ve preventative maintenanc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dometer readings and schedule timely maintenance to avoid costly repairs and increase depen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 fuel costs and reduce expen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cost per mileage, cost per route, miles per gallon, and fuel consumption precisely to better manag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7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Proven Technology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Core’s wireless radio frequency identification (RFID) technology is the transportation standard because of its reliability and accur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FID technology is used on a worldwide basis to track assets for rail and trucking companies, to manage commercial vehicles for airports, and for other tracking applications in the transportation indust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ducts are manufactured in the United States in an ISO 9001:2000 certified fac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7600" y="4994280"/>
            <a:ext cx="7462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13 million Amtech</a:t>
            </a:r>
            <a:r>
              <a:rPr b="1" i="1" lang="en-US" sz="2600" spc="-1" strike="noStrike" baseline="30000">
                <a:solidFill>
                  <a:srgbClr val="ff0000"/>
                </a:solidFill>
                <a:latin typeface="Times New Roman"/>
              </a:rPr>
              <a:t>®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brand tags distributed worldw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or various transportation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6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The Tools You Need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are attached to each bu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vehicle identificat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age information to a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477120" y="1523880"/>
            <a:ext cx="2120760" cy="1513440"/>
            <a:chOff x="6477120" y="1523880"/>
            <a:chExt cx="2120760" cy="1513440"/>
          </a:xfrm>
        </p:grpSpPr>
        <p:pic>
          <p:nvPicPr>
            <p:cNvPr id="58" name="component_odometer" descr=""/>
            <p:cNvPicPr/>
            <p:nvPr/>
          </p:nvPicPr>
          <p:blipFill>
            <a:blip r:embed="rId1"/>
            <a:stretch/>
          </p:blipFill>
          <p:spPr>
            <a:xfrm>
              <a:off x="6477120" y="1523880"/>
              <a:ext cx="212076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097400" y="276084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</a:rPr>
                <a:t>Odometer T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29400" y="3267000"/>
            <a:ext cx="2041560" cy="2167200"/>
            <a:chOff x="6629400" y="3267000"/>
            <a:chExt cx="2041560" cy="2167200"/>
          </a:xfrm>
        </p:grpSpPr>
        <p:pic>
          <p:nvPicPr>
            <p:cNvPr id="61" name="component_reader" descr=""/>
            <p:cNvPicPr/>
            <p:nvPr/>
          </p:nvPicPr>
          <p:blipFill>
            <a:blip r:embed="rId2"/>
            <a:stretch/>
          </p:blipFill>
          <p:spPr>
            <a:xfrm>
              <a:off x="6629400" y="3267000"/>
              <a:ext cx="2041560" cy="20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954120" y="5157720"/>
              <a:ext cx="15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</a:rPr>
                <a:t>SmartPass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Franklin Gothic Book"/>
                </a:rPr>
                <a:t>®</a:t>
              </a: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</a:rPr>
                <a:t> R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5800" y="2870280"/>
            <a:ext cx="7772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ers are stationed at entry/exit poi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pture tag information and transf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o a host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2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6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7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8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ers stationed at entry/exi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ints read the tag and transf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nformation to a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ransaction" descr=""/>
          <p:cNvPicPr/>
          <p:nvPr/>
        </p:nvPicPr>
        <p:blipFill>
          <a:blip r:embed="rId1"/>
          <a:stretch/>
        </p:blipFill>
        <p:spPr>
          <a:xfrm>
            <a:off x="5168880" y="3305160"/>
            <a:ext cx="3738600" cy="2587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SmartWat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Demi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Software For Continuous Updates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top recording of bus movements to a Microso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-compatibl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and customized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alidate daily data records to improve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ce bus in/out times to determine driver and route adher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ck mileage used per bus to enhanc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eventative maintenance progra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valuate fuel consumption, mileag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er gallon, and mileage per route/trip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better manage c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9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ffordable And Secure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time installation f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annual and monthly recurring communication f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itial investment significantly less than GPS satellite and cellular technology solu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adopted standard technology for many transportation indus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43640" y="4495680"/>
            <a:ext cx="521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roven technology from the wirel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munication pio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9:00:23Z</dcterms:created>
  <dc:creator>Transcore</dc:creator>
  <dc:description/>
  <dc:language>en-US</dc:language>
  <cp:lastModifiedBy>Jamie Cameron</cp:lastModifiedBy>
  <dcterms:modified xsi:type="dcterms:W3CDTF">2003-12-05T20:47:11Z</dcterms:modified>
  <cp:revision>26</cp:revision>
  <dc:subject/>
  <dc:title>PowerPoint Presentation</dc:title>
</cp:coreProperties>
</file>